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0D42-375A-4280-B4BD-8EB7B4CA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76D8-3C13-4644-9ABB-814F5A83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27B9-2F91-4E10-80F1-35DAC8D7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0EE6-BF6F-4EB7-A923-216BE163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2BC0-9897-4CDD-A8B4-70989E70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50C0-72FD-434D-8ABE-05AD98CA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6538-EFDF-4888-9A9F-2FCF227F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53B9-8255-4509-87BD-31308E63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E98A-9871-4F56-A2DB-9D7D722A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9BE8-8BB7-45D7-BED1-442F633C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49A5-042E-4EA2-8260-EC3BE0E3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BEBE-D571-49A9-8110-B2EA528E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8669-34F1-4220-8E57-592B0F51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EA63-4DDF-475A-80B3-B56C4F73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5D15-B41E-425B-BEB3-F0E1052F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2606-1DC3-4759-B523-36377015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24F4-0E32-428B-B13A-3858529B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D8E2-F0B5-4102-80FD-146760B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DE70-F9AE-4258-97CA-B0F8EDAD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6147-B899-451B-842C-7D21152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7060-B80B-43D9-933C-C1B304A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57AF-FAEE-4ADB-9330-1F6FFCF9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B3C0-B92F-4302-8C9E-3A1E828F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7FD1-43F8-4AF5-8CEE-E1953A28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E18F-432C-4C25-8B8F-F9EBD89E2C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CF6-77B4-4E7B-A058-498AD458CD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e5ff"/>
                </a:solidFill>
                <a:latin typeface="Garamond"/>
              </a:rPr>
              <a:t>HENRY’S </a:t>
            </a:r>
            <a:r>
              <a:rPr b="0" lang="en-US" sz="6000" spc="-1" strike="noStrike">
                <a:solidFill>
                  <a:srgbClr val="e5e5ff"/>
                </a:solidFill>
                <a:latin typeface="Copperplate Gothic Bold"/>
              </a:rPr>
              <a:t>FREEDOM</a:t>
            </a:r>
            <a:r>
              <a:rPr b="0" lang="en-US" sz="6000" spc="-1" strike="noStrike">
                <a:solidFill>
                  <a:srgbClr val="e5e5ff"/>
                </a:solidFill>
                <a:latin typeface="Garamond"/>
              </a:rPr>
              <a:t> BOX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pperplate Gothic Bold"/>
              </a:rPr>
              <a:t>Retold B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pperplate Gothic Bold"/>
              </a:rPr>
              <a:t>JOI SMIT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04240" y="0"/>
            <a:ext cx="2039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laves weren’t allowed to know their birthdays so Henry Brown didn’t. Henry and his brothers and sisters worked in a mansion with their master lived. Henry's master was good to him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00Z</dcterms:created>
  <dc:creator>test</dc:creator>
  <dc:description/>
  <dc:language>en-US</dc:language>
  <cp:lastModifiedBy>test</cp:lastModifiedBy>
  <dcterms:modified xsi:type="dcterms:W3CDTF">2011-03-02T19:44:16Z</dcterms:modified>
  <cp:revision>4</cp:revision>
  <dc:subject/>
  <dc:title>HENRY”S FREEDOM BOX</dc:title>
</cp:coreProperties>
</file>